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723438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AAF-4977-44EC-B04D-1BC4B4D5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440-8E88-4CC6-8FA3-33EB635A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058-59F3-4B60-9B72-4D2F876F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992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356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2664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992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356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2D92-66B6-461D-8F90-637282D1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44F9-69D5-447E-9169-07C9BBB7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4FAF-57D8-4E7C-AA74-4B35AF0D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7985-CEBA-4069-914A-591A7A6B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5798-E957-41F3-8904-F1FE64C4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3F0A-E14D-4342-B197-DE0D80D9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85280" y="355320"/>
            <a:ext cx="875052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4B8A-E52B-4CC7-9CFA-3E2C4053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B2B5-5FD9-410D-B1CE-7B58A6AD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5C9-42BA-4A1A-AA7D-50130E47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4E62-F9C2-4351-82DF-DCDFAD6C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CC70-B014-4E7B-BFD1-DDADEBC1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4621-6019-40A5-8882-7CC6C140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E7A7-1493-42D1-83DD-58A158DC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8992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5356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2664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8992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5356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5A00-AA07-4AF4-8132-652BA6D4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57F34-BC05-4D14-A4CF-987E0A3D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396BD-E96F-40DD-B6DB-97415CC1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6ABD-95A1-4EEF-ABEB-26A397DC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699B3-5497-4C0A-A89F-71703E42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EC19A-9C1B-45BC-9206-B6ED5627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365-710C-44E5-A427-A9641F8E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85280" y="355320"/>
            <a:ext cx="875052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8D913-2061-463D-9F20-6A3FF901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BC831-52BD-47CB-B2E9-F03E0E1C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EB2A7-D519-4C93-BC12-C0204EED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098C4-7752-4042-8384-CAF264A1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A0C7D-9399-4577-9ABD-7B45AF4C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A4B9-0499-4C54-B5BC-39A63D49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8992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5356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664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8992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25356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4063-99E5-4621-B387-4861DE9E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9E0C3-8688-45EF-A18A-EE484F63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EBBB7-4306-479F-A408-A52B0212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3B791-7949-43C3-AE94-854F2241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DB4-03C7-4D28-B7F0-7C672960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A0968-F4B7-486C-9559-D3829303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8B348-3B45-4993-91AB-4F90CF5F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85280" y="355320"/>
            <a:ext cx="875052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2627D-4FD1-43BF-B9C5-5481E569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8A97E-6A04-46F0-ADF1-6CB89522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42E26-28AA-4CB4-BA84-EF840B63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44BEC-3CC8-440D-A81D-6DD9AB8F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8B703-A868-4FE3-B7BB-65DB3A2F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5F571-500C-41D5-BA52-A8151487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8992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5356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2664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8992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25356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785B-20B2-4C54-AA0F-2F92E252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A54FF-B899-49B7-A72D-1A0EB906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5FE-0B3D-4492-83CA-55D478AD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E0912-888C-48EC-BDC0-D209E096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F484B-5D07-4A04-87C2-2DA5E728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E0FAA-A941-4C67-8FDE-14FFE6FE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2525B-E954-4388-96BA-02D233D6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85280" y="355320"/>
            <a:ext cx="875052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DE246-743F-42C0-B55D-1762F1E9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2669B-3DDE-4640-B4F2-1A269580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C41DB-8876-43E5-841B-75331137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EE7EF-E45D-4B01-AE24-BAABA48E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D14E4-3424-4F75-B799-F0C929DE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7077C-2B2F-44C3-9FF5-E1868C15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85280" y="355320"/>
            <a:ext cx="875052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AAE-2FFF-478B-BB22-592DA380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8992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5356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92664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8992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5356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30565-D734-4539-9633-168FBA53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73AEF-4212-4FFE-90B9-E8538AED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2B4EB-8098-46D5-9FC3-1AD2D838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C3040-E990-416F-BAE6-BA6DF978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24B12-2C03-4842-821B-FC5ECF20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42ADC-C2F8-425D-84F4-45D1EE4D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85280" y="355320"/>
            <a:ext cx="875052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A4AAB-076F-463F-BCA7-CDD14E62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BF8B3-1A1B-441C-B7A1-9EEE9E39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1660E-FD85-4D63-A293-1D9F3A3F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2BA2C-878C-4117-A796-97E2A450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973-BD1B-494F-9ED5-2204F473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E849D-6F8E-4608-94EF-51C78564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7D5B3-F89A-4A2B-A7C0-BAA9D93E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992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356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2664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992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356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4F41C-DC4E-4BB5-BC78-9A15B14E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528B0-C645-4419-BC24-33EC2536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95528-75D2-4D02-B811-5710DBB5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AF9E1-9871-4B9F-85F1-905D8EB3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3487D-6836-4CCA-B6EF-37D5893D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84BF6-ABCC-4707-BBEE-AB9AC185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85280" y="355320"/>
            <a:ext cx="875052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4A904-F094-4455-9526-E7541878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D9A9A-7508-455C-A3E4-B223BBCE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BE3-DA72-4B28-98EE-49A0FEC2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71C95-96F3-43CD-9F59-05A3B447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ABA36-808C-4615-8E1C-05A3E83E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8B3CF-A330-40A6-B0D1-B6CAB76E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962960" y="470196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8C9B4-A9F6-4948-A6F3-074DEEFB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58992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253560" y="280944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92664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58992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253560" y="4701960"/>
            <a:ext cx="253620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2F496-F8D6-4E16-823F-4EEE6D6B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664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2960" y="2809440"/>
            <a:ext cx="384372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6640" y="4701960"/>
            <a:ext cx="7877160" cy="1728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F00-350A-4C97-AF7F-35C257CD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43000" y="239760"/>
            <a:ext cx="9245520" cy="259236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25360" y="1763640"/>
            <a:ext cx="9274320" cy="1395360"/>
            <a:chOff x="225360" y="1763640"/>
            <a:chExt cx="9274320" cy="1395360"/>
          </a:xfrm>
        </p:grpSpPr>
        <p:sp>
          <p:nvSpPr>
            <p:cNvPr id="2" name="Freeform 14"/>
            <p:cNvSpPr/>
            <p:nvPr/>
          </p:nvSpPr>
          <p:spPr>
            <a:xfrm>
              <a:off x="6429600" y="1915560"/>
              <a:ext cx="3058200" cy="7491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784960" y="1780920"/>
              <a:ext cx="5894640" cy="8920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3007800" y="1793880"/>
              <a:ext cx="5813280" cy="812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964120" y="1779840"/>
              <a:ext cx="3516840" cy="6836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25360" y="1763640"/>
              <a:ext cx="9274320" cy="13953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48928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162C-4830-4E63-B4A1-203CDE1D9E6B}" type="datetime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0592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4242960" y="6562440"/>
            <a:ext cx="123516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AE00-B1FD-465A-ADE1-7FD89DCD2D19}" type="slidenum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908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1" marL="60804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2" marL="90324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3" marL="120816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4" marL="154620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5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6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43000" y="239760"/>
            <a:ext cx="9245520" cy="633708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25360" y="5621400"/>
            <a:ext cx="9274320" cy="1398600"/>
            <a:chOff x="225360" y="5621400"/>
            <a:chExt cx="9274320" cy="1398600"/>
          </a:xfrm>
        </p:grpSpPr>
        <p:sp>
          <p:nvSpPr>
            <p:cNvPr id="50" name="Freeform 14"/>
            <p:cNvSpPr/>
            <p:nvPr/>
          </p:nvSpPr>
          <p:spPr>
            <a:xfrm>
              <a:off x="6437880" y="5773680"/>
              <a:ext cx="3061800" cy="7509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788200" y="5638680"/>
              <a:ext cx="5902200" cy="894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3011040" y="5651640"/>
              <a:ext cx="5820840" cy="8143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971320" y="5637600"/>
              <a:ext cx="3521520" cy="6850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25360" y="5621400"/>
              <a:ext cx="9274320" cy="1398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908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1" marL="60804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2" marL="90324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3" marL="120816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4" marL="154620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5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6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48928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3806-CF86-4A6A-8FD0-5FCB78D01D68}" type="datetime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0592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4242960" y="6562440"/>
            <a:ext cx="123516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782A-9361-4410-8A03-AA611619B253}" type="slidenum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43000" y="239760"/>
            <a:ext cx="9245520" cy="4973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429240" y="4413240"/>
            <a:ext cx="3059280" cy="75096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784600" y="4278240"/>
            <a:ext cx="5895720" cy="8938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3006720" y="4292640"/>
            <a:ext cx="5815080" cy="81288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964120" y="4278240"/>
            <a:ext cx="3516480" cy="68436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25360" y="4260960"/>
            <a:ext cx="9274320" cy="139680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908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1" marL="60804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2" marL="90324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3" marL="120816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4" marL="154620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5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6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48928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3368-7A27-4B56-99E8-4DFF6E1FC282}" type="datetime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0592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242960" y="6562440"/>
            <a:ext cx="123516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089F-DD20-4240-93B6-173DEA71721F}" type="slidenum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43000" y="239760"/>
            <a:ext cx="9245520" cy="149868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25360" y="749160"/>
            <a:ext cx="9274320" cy="1397160"/>
            <a:chOff x="225360" y="749160"/>
            <a:chExt cx="9274320" cy="1397160"/>
          </a:xfrm>
        </p:grpSpPr>
        <p:sp>
          <p:nvSpPr>
            <p:cNvPr id="145" name="Freeform 14"/>
            <p:cNvSpPr/>
            <p:nvPr/>
          </p:nvSpPr>
          <p:spPr>
            <a:xfrm>
              <a:off x="6429600" y="901440"/>
              <a:ext cx="3058200" cy="750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784960" y="766440"/>
              <a:ext cx="5894640" cy="8931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3007800" y="779400"/>
              <a:ext cx="5813280" cy="8136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964120" y="765360"/>
              <a:ext cx="3516840" cy="6843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25360" y="749160"/>
              <a:ext cx="9274320" cy="13971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908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1" marL="60804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2" marL="90324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3" marL="120816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4" marL="154620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5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6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48928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64EC-BE9F-4A4A-9253-F000801EAF0B}" type="datetime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0592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242960" y="6562440"/>
            <a:ext cx="123516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6000-6625-4121-83FC-49412FCDA138}" type="slidenum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43000" y="239760"/>
            <a:ext cx="9245520" cy="149868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25360" y="749160"/>
            <a:ext cx="9274320" cy="1398600"/>
            <a:chOff x="225360" y="749160"/>
            <a:chExt cx="9274320" cy="1398600"/>
          </a:xfrm>
        </p:grpSpPr>
        <p:sp>
          <p:nvSpPr>
            <p:cNvPr id="193" name="Freeform 14"/>
            <p:cNvSpPr/>
            <p:nvPr/>
          </p:nvSpPr>
          <p:spPr>
            <a:xfrm>
              <a:off x="6437880" y="901440"/>
              <a:ext cx="3061800" cy="7509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788200" y="766440"/>
              <a:ext cx="5902200" cy="894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3011040" y="779400"/>
              <a:ext cx="5820840" cy="8143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971320" y="765360"/>
              <a:ext cx="3521520" cy="6850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25360" y="749160"/>
              <a:ext cx="9274320" cy="1398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908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1" marL="60804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2" marL="90324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3" marL="120816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4" marL="154620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5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6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48928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2316-F168-4489-8A04-03A28E2364ED}" type="datetime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20592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4242960" y="6562440"/>
            <a:ext cx="123516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DDCF-EDEB-4C6C-B21B-47C9BD136F3A}" type="slidenum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43000" y="239760"/>
            <a:ext cx="9245520" cy="633708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25360" y="5621400"/>
            <a:ext cx="9274320" cy="1398600"/>
            <a:chOff x="225360" y="5621400"/>
            <a:chExt cx="9274320" cy="1398600"/>
          </a:xfrm>
        </p:grpSpPr>
        <p:sp>
          <p:nvSpPr>
            <p:cNvPr id="241" name="Freeform 14"/>
            <p:cNvSpPr/>
            <p:nvPr/>
          </p:nvSpPr>
          <p:spPr>
            <a:xfrm>
              <a:off x="6437880" y="5773680"/>
              <a:ext cx="3061800" cy="7509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788200" y="5638680"/>
              <a:ext cx="5902200" cy="894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3011040" y="5651640"/>
              <a:ext cx="5820840" cy="8143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971320" y="5637600"/>
              <a:ext cx="3521520" cy="6850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25360" y="5621400"/>
              <a:ext cx="9274320" cy="1398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908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1" marL="60804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2" marL="90324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3" marL="120816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4" marL="154620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5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6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48928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F798-A8D9-4273-9924-8B244E487F19}" type="datetime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20592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4242960" y="6562440"/>
            <a:ext cx="123516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7E1F-8B23-4C66-9AF5-927D6EFBC1E2}" type="slidenum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43000" y="239760"/>
            <a:ext cx="9245520" cy="149868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25360" y="749160"/>
            <a:ext cx="9274320" cy="1398600"/>
            <a:chOff x="225360" y="749160"/>
            <a:chExt cx="9274320" cy="1398600"/>
          </a:xfrm>
        </p:grpSpPr>
        <p:sp>
          <p:nvSpPr>
            <p:cNvPr id="289" name="Freeform 14"/>
            <p:cNvSpPr/>
            <p:nvPr/>
          </p:nvSpPr>
          <p:spPr>
            <a:xfrm>
              <a:off x="6437880" y="901440"/>
              <a:ext cx="3061800" cy="7509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788200" y="766440"/>
              <a:ext cx="5902200" cy="894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3011040" y="779400"/>
              <a:ext cx="5820840" cy="8143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971320" y="765360"/>
              <a:ext cx="3521520" cy="6850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25360" y="749160"/>
              <a:ext cx="9274320" cy="13986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85280" y="355320"/>
            <a:ext cx="8750520" cy="1314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6640" y="2809440"/>
            <a:ext cx="7877160" cy="362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28908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1" marL="608040" indent="-28908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2" marL="90324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3" marL="120816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4" marL="1546200" indent="-241200">
              <a:spcBef>
                <a:spcPts val="624"/>
              </a:spcBef>
              <a:buClr>
                <a:srgbClr val="31b6fd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5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  <a:p>
            <a:pPr lvl="6" marL="1546200" indent="-241200">
              <a:spcBef>
                <a:spcPts val="624"/>
              </a:spcBef>
              <a:buClr>
                <a:srgbClr val="000000"/>
              </a:buClr>
              <a:buFont typeface="Symbol" charset="2"/>
              <a:buChar char="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48928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7563-3E30-4CC2-B8E5-7EFC947BAECB}" type="datetime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205920" y="6562440"/>
            <a:ext cx="402588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4242960" y="6562440"/>
            <a:ext cx="1235160" cy="382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D83D-5E9D-4382-8112-DAC7C20155FE}" type="slidenum">
              <a:rPr b="0" lang="zh-CN" sz="11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2"/>
          <p:cNvSpPr txBox="1"/>
          <p:nvPr/>
        </p:nvSpPr>
        <p:spPr>
          <a:xfrm>
            <a:off x="2235240" y="3413160"/>
            <a:ext cx="6500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DilleniaUPC"/>
              </a:rPr>
              <a:t>Why don't you talk to your parents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DilleniaUPC"/>
              <a:ea typeface="DilleniaUPC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2995560" y="4338720"/>
            <a:ext cx="272088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微软雅黑"/>
              </a:rPr>
              <a:t>R  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微软雅黑"/>
              </a:rPr>
              <a:t>八年级下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444600" y="3252960"/>
            <a:ext cx="27381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zh-CN" sz="4200" spc="-1" strike="noStrike">
                <a:solidFill>
                  <a:srgbClr val="0000ff"/>
                </a:solidFill>
                <a:latin typeface="Arial"/>
              </a:rPr>
              <a:t>Unit 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444600" y="4151160"/>
            <a:ext cx="843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2995560" y="4919760"/>
            <a:ext cx="44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AutoShape 2"/>
          <p:cNvSpPr/>
          <p:nvPr/>
        </p:nvSpPr>
        <p:spPr>
          <a:xfrm>
            <a:off x="2095560" y="223920"/>
            <a:ext cx="4197240" cy="11570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809640" y="165420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3. The Taylors are a typical American fami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typica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形容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，意为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典型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be typical o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意为“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特征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This is a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typica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bourgeois neighborh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这是一个典型的中产阶级地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Botswana is not a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typica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African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博茨瓦纳并不是典型的非洲国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2"/>
          <p:cNvSpPr/>
          <p:nvPr/>
        </p:nvSpPr>
        <p:spPr>
          <a:xfrm>
            <a:off x="1866960" y="169920"/>
            <a:ext cx="4197240" cy="11574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755640" y="1327320"/>
            <a:ext cx="833436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4. Maybe I could cut out a f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of their activities,but I believe these activities are important for my children’s fu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cut ou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"/>
              </a:rPr>
              <a:t>动词短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，意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删除；删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”，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"/>
              </a:rPr>
              <a:t>cut sth out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"/>
              </a:rPr>
              <a:t>相当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Arial"/>
              </a:rPr>
              <a:t>stop doi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cut ou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the paragraph in this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我删除了这篇文章的一个段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642960" y="1203480"/>
            <a:ext cx="829296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cut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有关的短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ut o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切断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ut of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的数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停止向某人供应某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ut someone out of all feat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使某人黯然失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be cut out fo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天然适合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ut out of the same clo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一路货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气味相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ut out of whole clo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凭空捏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ut it o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停止（做某事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"/>
          <p:cNvSpPr/>
          <p:nvPr/>
        </p:nvSpPr>
        <p:spPr>
          <a:xfrm>
            <a:off x="2124000" y="46080"/>
            <a:ext cx="4197600" cy="11574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AutoShape 2"/>
          <p:cNvSpPr/>
          <p:nvPr/>
        </p:nvSpPr>
        <p:spPr>
          <a:xfrm>
            <a:off x="2073240" y="222120"/>
            <a:ext cx="4197240" cy="11588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76320">
            <a:solidFill>
              <a:srgbClr val="5eae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563400" y="1584360"/>
            <a:ext cx="87314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5. In some families,competiton starts very young and continues until the kids get ol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continu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持续；继续存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可用作不及物动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也可用作及物动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They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continue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down until they came to some pockets of natural g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他们继续往下钻，终於找到了一些天然气的气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Wet weather may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continu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for a few more da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多雨的天气可能还要持续好几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/>
          <p:cNvSpPr/>
          <p:nvPr/>
        </p:nvSpPr>
        <p:spPr>
          <a:xfrm>
            <a:off x="1957320" y="222120"/>
            <a:ext cx="4197240" cy="11588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565200" y="1625760"/>
            <a:ext cx="87948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ntinue to do s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持续做完一件事再做别的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；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ntinue doing s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是指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做一件事中断后再继续做这件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finishing my homework ,I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tinue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elp my mother with hous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写完作业后帮妈妈做家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fter finishing my homework ,I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tinue  help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y mother with hous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（原来在帮妈妈做家务）写完作业后继续帮妈妈做家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770040" y="1108080"/>
            <a:ext cx="8620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6. And they are always comparing them with other children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他们总是将他们和其他的孩子比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compar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比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compare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the copy with the original, but there was not much difference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我比较了复印件和原件，但是差别不是很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compare...with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意为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比较；对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Compar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this new TV set with the old one, you will see which is better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将这台新电视机与旧电视机一比，你就会看出哪一台更好一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"/>
          <p:cNvSpPr/>
          <p:nvPr/>
        </p:nvSpPr>
        <p:spPr>
          <a:xfrm>
            <a:off x="1905120" y="209520"/>
            <a:ext cx="4197240" cy="11574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矩形 6" descr=""/>
          <p:cNvPicPr/>
          <p:nvPr/>
        </p:nvPicPr>
        <p:blipFill>
          <a:blip r:embed="rId1"/>
          <a:stretch/>
        </p:blipFill>
        <p:spPr>
          <a:xfrm>
            <a:off x="3078000" y="560520"/>
            <a:ext cx="3381480" cy="85860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3"/>
          <p:cNvSpPr/>
          <p:nvPr/>
        </p:nvSpPr>
        <p:spPr>
          <a:xfrm>
            <a:off x="522360" y="1419120"/>
            <a:ext cx="85676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this is mistake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With my opinion                        B. In my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According to my opinion           D.On my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Jack is late again. It is_______ of him to keep others wa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normal      B.ordinary       C.common      D.ty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William has cut his smoking ____ to five cigarettes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out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. off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. short              D.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"/>
          <p:cNvSpPr/>
          <p:nvPr/>
        </p:nvSpPr>
        <p:spPr>
          <a:xfrm>
            <a:off x="4591800" y="3309840"/>
            <a:ext cx="491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"/>
          <p:cNvSpPr/>
          <p:nvPr/>
        </p:nvSpPr>
        <p:spPr>
          <a:xfrm>
            <a:off x="1666800" y="1419120"/>
            <a:ext cx="49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"/>
          <p:cNvSpPr/>
          <p:nvPr/>
        </p:nvSpPr>
        <p:spPr>
          <a:xfrm>
            <a:off x="5388120" y="5003640"/>
            <a:ext cx="49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矩形 6" descr=""/>
          <p:cNvPicPr/>
          <p:nvPr/>
        </p:nvPicPr>
        <p:blipFill>
          <a:blip r:embed="rId1"/>
          <a:stretch/>
        </p:blipFill>
        <p:spPr>
          <a:xfrm>
            <a:off x="3078000" y="560520"/>
            <a:ext cx="3381480" cy="8586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3"/>
          <p:cNvSpPr/>
          <p:nvPr/>
        </p:nvSpPr>
        <p:spPr>
          <a:xfrm>
            <a:off x="592200" y="1419120"/>
            <a:ext cx="8510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r. Bethune 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 working in spite of cutting his hand during an op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stopped      B. continued     C. forgot       D. enj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are most children under too much pressu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cause their parents always compare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with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B.  by                  C.  to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D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 Once the actor Edwards told his fan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 yourself and d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let anybody ____ you aroun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pull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B.push                C.take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D.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1"/>
          <p:cNvSpPr/>
          <p:nvPr/>
        </p:nvSpPr>
        <p:spPr>
          <a:xfrm>
            <a:off x="3078000" y="1419120"/>
            <a:ext cx="49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1"/>
          <p:cNvSpPr/>
          <p:nvPr/>
        </p:nvSpPr>
        <p:spPr>
          <a:xfrm>
            <a:off x="1693800" y="3921120"/>
            <a:ext cx="49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"/>
          <p:cNvSpPr/>
          <p:nvPr/>
        </p:nvSpPr>
        <p:spPr>
          <a:xfrm>
            <a:off x="4299120" y="5535720"/>
            <a:ext cx="49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u=2650296767,541340855&amp;fm=23&amp;gp=0"/>
          <p:cNvPicPr/>
          <p:nvPr/>
        </p:nvPicPr>
        <p:blipFill>
          <a:blip r:embed="rId1"/>
          <a:stretch/>
        </p:blipFill>
        <p:spPr>
          <a:xfrm>
            <a:off x="154080" y="1830240"/>
            <a:ext cx="4279680" cy="35672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3"/>
          <p:cNvSpPr/>
          <p:nvPr/>
        </p:nvSpPr>
        <p:spPr>
          <a:xfrm>
            <a:off x="566640" y="539748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pinion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n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意见，看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u=671469469,1586253782&amp;fm=23&amp;gp=0"/>
          <p:cNvPicPr/>
          <p:nvPr/>
        </p:nvPicPr>
        <p:blipFill>
          <a:blip r:embed="rId2"/>
          <a:stretch/>
        </p:blipFill>
        <p:spPr>
          <a:xfrm>
            <a:off x="4237200" y="1830240"/>
            <a:ext cx="5135400" cy="35672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5913360" y="5397480"/>
            <a:ext cx="345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kill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技艺；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2879640" y="260280"/>
            <a:ext cx="3456000" cy="1201680"/>
          </a:xfrm>
          <a:prstGeom prst="flowChartDocument">
            <a:avLst/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w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u=3479759568,2857852835&amp;fm=21&amp;gp=0"/>
          <p:cNvPicPr/>
          <p:nvPr/>
        </p:nvPicPr>
        <p:blipFill>
          <a:blip r:embed="rId1"/>
          <a:srcRect l="0" t="0" r="0" b="3882"/>
          <a:stretch/>
        </p:blipFill>
        <p:spPr>
          <a:xfrm>
            <a:off x="279360" y="1335240"/>
            <a:ext cx="3990960" cy="4116240"/>
          </a:xfrm>
          <a:prstGeom prst="rect">
            <a:avLst/>
          </a:prstGeom>
          <a:ln w="0">
            <a:noFill/>
          </a:ln>
        </p:spPr>
      </p:pic>
      <p:sp>
        <p:nvSpPr>
          <p:cNvPr id="346" name="AutoShape 3"/>
          <p:cNvSpPr/>
          <p:nvPr/>
        </p:nvSpPr>
        <p:spPr>
          <a:xfrm>
            <a:off x="2921040" y="131760"/>
            <a:ext cx="3456000" cy="1203480"/>
          </a:xfrm>
          <a:prstGeom prst="flowChartDocument">
            <a:avLst/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w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812880" y="5451480"/>
            <a:ext cx="34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otball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足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u=2439171243,1859296311&amp;fm=90&amp;gp=0"/>
          <p:cNvPicPr/>
          <p:nvPr/>
        </p:nvPicPr>
        <p:blipFill>
          <a:blip r:embed="rId2"/>
          <a:srcRect l="0" t="10388" r="0" b="0"/>
          <a:stretch/>
        </p:blipFill>
        <p:spPr>
          <a:xfrm>
            <a:off x="4794120" y="1820880"/>
            <a:ext cx="4314960" cy="34243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6"/>
          <p:cNvSpPr/>
          <p:nvPr/>
        </p:nvSpPr>
        <p:spPr>
          <a:xfrm>
            <a:off x="5626080" y="5245200"/>
            <a:ext cx="319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quick  adj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迅速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u=150587222,3361899146&amp;fm=23&amp;gp=0"/>
          <p:cNvPicPr/>
          <p:nvPr/>
        </p:nvPicPr>
        <p:blipFill>
          <a:blip r:embed="rId1"/>
          <a:stretch/>
        </p:blipFill>
        <p:spPr>
          <a:xfrm>
            <a:off x="398520" y="1758960"/>
            <a:ext cx="4205160" cy="28036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3"/>
          <p:cNvSpPr/>
          <p:nvPr/>
        </p:nvSpPr>
        <p:spPr>
          <a:xfrm>
            <a:off x="2874960" y="260280"/>
            <a:ext cx="3456000" cy="1201680"/>
          </a:xfrm>
          <a:prstGeom prst="flowChartDocument">
            <a:avLst/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w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978440" y="2432160"/>
            <a:ext cx="431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ntinue   v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持续；继续存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5"/>
          <p:cNvGrpSpPr/>
          <p:nvPr/>
        </p:nvGrpSpPr>
        <p:grpSpPr>
          <a:xfrm>
            <a:off x="4014720" y="4986360"/>
            <a:ext cx="5273640" cy="1954080"/>
            <a:chOff x="4014720" y="4986360"/>
            <a:chExt cx="5273640" cy="1954080"/>
          </a:xfrm>
        </p:grpSpPr>
        <p:pic>
          <p:nvPicPr>
            <p:cNvPr id="354" name="Picture 6" descr="u=1366903248,460050297&amp;fm=21&amp;gp=0"/>
            <p:cNvPicPr/>
            <p:nvPr/>
          </p:nvPicPr>
          <p:blipFill>
            <a:blip r:embed="rId2"/>
            <a:stretch/>
          </p:blipFill>
          <p:spPr>
            <a:xfrm>
              <a:off x="4014720" y="4986360"/>
              <a:ext cx="3524400" cy="19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7" descr="u=1366903248,460050297&amp;fm=21&amp;gp=0"/>
            <p:cNvPicPr/>
            <p:nvPr/>
          </p:nvPicPr>
          <p:blipFill>
            <a:blip r:embed="rId3"/>
            <a:stretch/>
          </p:blipFill>
          <p:spPr>
            <a:xfrm>
              <a:off x="7539120" y="5546880"/>
              <a:ext cx="1749240" cy="9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Text Box 8"/>
          <p:cNvSpPr/>
          <p:nvPr/>
        </p:nvSpPr>
        <p:spPr>
          <a:xfrm>
            <a:off x="555480" y="5288040"/>
            <a:ext cx="345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mpare   v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2"/>
          <p:cNvSpPr/>
          <p:nvPr/>
        </p:nvSpPr>
        <p:spPr>
          <a:xfrm>
            <a:off x="627120" y="409680"/>
            <a:ext cx="8361360" cy="1325520"/>
          </a:xfrm>
          <a:prstGeom prst="flowChartAlternateProcess">
            <a:avLst/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a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the after-school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and your classmates usually do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1165320" y="1994040"/>
            <a:ext cx="736596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__ do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__ use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__ have after-school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__ hang out with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__ watch mov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_____ play sports or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291960" y="1981080"/>
            <a:ext cx="9168120" cy="1038240"/>
          </a:xfrm>
          <a:prstGeom prst="flowChartAlternateProcess">
            <a:avLst/>
          </a:prstGeom>
          <a:solidFill>
            <a:srgbClr val="ffcc99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b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 the article and answer the quest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2235240" y="368280"/>
            <a:ext cx="5362560" cy="1235160"/>
          </a:xfrm>
          <a:custGeom>
            <a:avLst/>
            <a:gdLst>
              <a:gd name="textAreaLeft" fmla="*/ 1340640 w 5362560"/>
              <a:gd name="textAreaRight" fmla="*/ 4021920 w 5362560"/>
              <a:gd name="textAreaTop" fmla="*/ 36360 h 1235160"/>
              <a:gd name="textAreaBottom" fmla="*/ 92664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453960" y="3375000"/>
            <a:ext cx="714384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 What is the common problem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inese and American famil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Who gives their opinions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U4 Section B 2b.mp3" descr=""/>
          <p:cNvPicPr/>
          <p:nvPr/>
        </p:nvPicPr>
        <p:blipFill>
          <a:blip r:embed="rId1"/>
          <a:stretch/>
        </p:blipFill>
        <p:spPr>
          <a:xfrm>
            <a:off x="8682120" y="825480"/>
            <a:ext cx="777960" cy="77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24134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2"/>
          <p:cNvSpPr/>
          <p:nvPr/>
        </p:nvSpPr>
        <p:spPr>
          <a:xfrm>
            <a:off x="2235240" y="368280"/>
            <a:ext cx="5362560" cy="1235160"/>
          </a:xfrm>
          <a:custGeom>
            <a:avLst/>
            <a:gdLst>
              <a:gd name="textAreaLeft" fmla="*/ 1340640 w 5362560"/>
              <a:gd name="textAreaRight" fmla="*/ 4021920 w 5362560"/>
              <a:gd name="textAreaTop" fmla="*/ 36360 h 1235160"/>
              <a:gd name="textAreaBottom" fmla="*/ 92664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604800" y="1603440"/>
            <a:ext cx="870444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What is the common problem for Chines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merican famil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Who gives their opinions abou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933480" y="2610000"/>
            <a:ext cx="74865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common problem for Chinese and American families is that children have too many after-school activies which cause them to be stre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933480" y="5362560"/>
            <a:ext cx="666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thy Taylor, Linda Miller, and Dr. Alice Green give their opinions about the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2"/>
          <p:cNvSpPr/>
          <p:nvPr/>
        </p:nvSpPr>
        <p:spPr>
          <a:xfrm>
            <a:off x="5388120" y="155520"/>
            <a:ext cx="4197240" cy="115740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76320">
            <a:solidFill>
              <a:srgbClr val="5eae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673200" y="1312920"/>
            <a:ext cx="84168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1. Who gives their opinions about the problem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opin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意见；想法；看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多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介词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of, on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或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about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连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既可用作可数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也可用作不可数名词；常用于短语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in one's opinion...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意为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在某人看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I can't agree with your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opin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in this respect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在这方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我不赞同你的意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at's your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opinion about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is tri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对这次旅行有什么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/>
          <p:cNvSpPr/>
          <p:nvPr/>
        </p:nvSpPr>
        <p:spPr>
          <a:xfrm>
            <a:off x="1851120" y="114480"/>
            <a:ext cx="4197240" cy="11570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426960" y="1515960"/>
            <a:ext cx="92948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2. Many of them are learning exam skills so that they can get into a good high school and later a good univers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ski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技艺；技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，表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熟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不可数名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The crisis put his courage and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ski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to the t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这次危难是对他的勇气和技能的考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Match your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Arial"/>
              </a:rPr>
              <a:t>ski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against the experts in this qui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在这一测验中你与专家较量一下技巧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aidai</dc:creator>
  <dc:description/>
  <cp:keywords/>
  <dc:language>en-US</dc:language>
  <cp:lastModifiedBy>will</cp:lastModifiedBy>
  <dcterms:modified xsi:type="dcterms:W3CDTF">2016-03-25T02:32:59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